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A09-5D22-45BA-83EB-ADC63F7F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A48-C341-4B11-B402-B9555C9D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527-054A-40A3-B8F0-E82C8CE0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59A-DC02-4B1B-9326-2C54BEC4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EB4-025E-4100-A1BA-0EB9745F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99B-CAC9-441F-9B83-4ADE0A9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981-25D2-4138-99A2-F367DBD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D2B-6B7E-472A-9003-9E5557D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452-4E4E-47F3-85BC-AACDD61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618-8F16-490F-BD20-C598A23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D8E-6C85-41A8-A2CC-72B36B0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767-C20D-4FC4-AA9E-E65B236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F484-9FCF-47B8-9D7A-880E40FEB1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予想が付かな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ビルド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分のツールで開発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人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ビルド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秒のエミュレータ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人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環境についての標準はある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ビルド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秒以内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仕様がな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物理シミュレータだからかもしれ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幾何学だからかもしれ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プログラムを書く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イディアスケッ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なんとなく思いついたことを確かめなが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考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モデリングの検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システムの構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イディアを実現して、有効性を実験で確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楽をする仕組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再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再利用できるようにする手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再利用する手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便利な仕組みを作る手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仕組みを理解して利用する手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知識・技術・思想の伝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口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アプログラミン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ツールの使い方指導（暗黙知が多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ースコードとコメ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ドキュメ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ライブラリと各自の研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31200" y="1773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3360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卒研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74320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8160" y="3754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各自の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52120" y="48769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2860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3360" y="1773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30680" y="274320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26320" y="3505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3754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各自の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95288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0360" y="5486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6652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卒研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.H</cp:lastModifiedBy>
  <dcterms:modified xsi:type="dcterms:W3CDTF">2009-06-18T02:11:57Z</dcterms:modified>
  <cp:revision>53</cp:revision>
  <dc:subject/>
  <dc:title>PowerPoint Presentation</dc:title>
</cp:coreProperties>
</file>