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5440" cy="375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AA0C-C0A8-401E-A5E2-1EB18829E53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7B27-D26B-4D6B-9A59-267A8DE7AB8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02FB-DA21-405B-BCE7-9062250649A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5B33-DD00-42C4-B777-28ACEBAAF73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03A5-54DD-460C-AB45-29F2050467F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699D-1A4E-464D-B200-E2D7107697F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3298-6D1A-4AF9-8E5F-9A4E2C72676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9810-00A3-4228-BD5B-01634118AB9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39C3-67E5-44FE-B546-CF71C1F8834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E288-BA49-452D-8F17-5408EB385AE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28B-D71B-467B-A095-AFD76D9DAE2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5049-6738-4CE4-9B91-6848E810BD7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EA51-FB90-4BD6-B7C9-7482173CA0A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3EE1-78D7-4B55-BE9A-80392F5E31D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5B28-DB1F-437E-AEC1-1BE88D0C660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257D-2642-4043-9F95-FD34C02343E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B744-1598-4757-972D-EE23D6E615F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0EC3-9E2D-475F-B35E-949D083C78F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1A85-B898-4524-BB2B-0C699A03733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092-C2AA-4DCF-8F6F-4768954E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657240"/>
            <a:ext cx="8763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AF4-6D1E-4BCE-AB10-469BE48C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560" y="99036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65724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560" y="365724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E8A-8F67-4A8B-AD9D-A9F3A00F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2821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5080" y="990360"/>
            <a:ext cx="2821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990360"/>
            <a:ext cx="2821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657240"/>
            <a:ext cx="2821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5080" y="3657240"/>
            <a:ext cx="2821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3657240"/>
            <a:ext cx="2821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01C-F321-4963-8581-B92F0BB2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2A7-E4DF-4468-A767-2E29D7D4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D27-F474-4DB8-BF88-95F91A85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27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560" y="990360"/>
            <a:ext cx="427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1B2-807F-4144-95B1-D9CD412B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DD3-B0DB-4327-8D96-2A388396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28800" y="158760"/>
            <a:ext cx="795816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0A7-AA2C-446F-9A4E-85DB42E3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990360"/>
            <a:ext cx="427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65724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4CB-C080-4AFC-B79C-FB87873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27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99036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560" y="365724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E28-655A-4BC1-B65A-DA61C23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990360"/>
            <a:ext cx="4276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657240"/>
            <a:ext cx="8763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C11-D06B-4293-99DF-216A2091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0BC5-E6FC-4EF6-B7A9-45BC330DF2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6040" y="843120"/>
            <a:ext cx="87393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連続接触判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14400" y="1066680"/>
            <a:ext cx="1219320" cy="99072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0" y="384"/>
                </a:moveTo>
                <a:lnTo>
                  <a:pt x="432" y="0"/>
                </a:lnTo>
                <a:lnTo>
                  <a:pt x="768" y="384"/>
                </a:lnTo>
                <a:lnTo>
                  <a:pt x="336" y="624"/>
                </a:lnTo>
                <a:lnTo>
                  <a:pt x="0" y="384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914400" y="16765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1752480" y="1600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2362320"/>
            <a:ext cx="1523880" cy="990360"/>
          </a:xfrm>
          <a:custGeom>
            <a:avLst/>
            <a:gdLst/>
            <a:ahLst/>
            <a:rect l="l" t="t" r="r" b="b"/>
            <a:pathLst>
              <a:path w="960" h="624">
                <a:moveTo>
                  <a:pt x="480" y="0"/>
                </a:moveTo>
                <a:lnTo>
                  <a:pt x="0" y="624"/>
                </a:lnTo>
                <a:lnTo>
                  <a:pt x="960" y="432"/>
                </a:lnTo>
                <a:lnTo>
                  <a:pt x="48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90720" y="3733920"/>
            <a:ext cx="1523880" cy="1676160"/>
            <a:chOff x="990720" y="3733920"/>
            <a:chExt cx="1523880" cy="1676160"/>
          </a:xfrm>
        </p:grpSpPr>
        <p:sp>
          <p:nvSpPr>
            <p:cNvPr id="206" name="Oval 5"/>
            <p:cNvSpPr/>
            <p:nvPr/>
          </p:nvSpPr>
          <p:spPr>
            <a:xfrm>
              <a:off x="1905120" y="4343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90720" y="3733920"/>
              <a:ext cx="1523880" cy="99036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480" y="0"/>
                  </a:moveTo>
                  <a:lnTo>
                    <a:pt x="0" y="624"/>
                  </a:lnTo>
                  <a:lnTo>
                    <a:pt x="960" y="432"/>
                  </a:lnTo>
                  <a:lnTo>
                    <a:pt x="48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90720" y="4419720"/>
              <a:ext cx="1523880" cy="99036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960" y="0"/>
                  </a:moveTo>
                  <a:lnTo>
                    <a:pt x="528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2480" y="3733920"/>
              <a:ext cx="7632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819520" y="3733920"/>
            <a:ext cx="1523880" cy="990360"/>
            <a:chOff x="2819520" y="3733920"/>
            <a:chExt cx="1523880" cy="990360"/>
          </a:xfrm>
        </p:grpSpPr>
        <p:sp>
          <p:nvSpPr>
            <p:cNvPr id="211" name="Oval 5"/>
            <p:cNvSpPr/>
            <p:nvPr/>
          </p:nvSpPr>
          <p:spPr>
            <a:xfrm>
              <a:off x="3733920" y="4343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9520" y="3733920"/>
              <a:ext cx="1523880" cy="99036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480" y="0"/>
                  </a:moveTo>
                  <a:lnTo>
                    <a:pt x="0" y="624"/>
                  </a:lnTo>
                  <a:lnTo>
                    <a:pt x="960" y="432"/>
                  </a:lnTo>
                  <a:lnTo>
                    <a:pt x="48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81280" y="3733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580920" y="4267080"/>
              <a:ext cx="762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819520" y="42670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H="1">
            <a:off x="1447560" y="10666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1371600"/>
            <a:ext cx="1523880" cy="990720"/>
          </a:xfrm>
          <a:custGeom>
            <a:avLst/>
            <a:gdLst/>
            <a:ahLst/>
            <a:rect l="l" t="t" r="r" b="b"/>
            <a:pathLst>
              <a:path w="960" h="624">
                <a:moveTo>
                  <a:pt x="480" y="0"/>
                </a:moveTo>
                <a:lnTo>
                  <a:pt x="0" y="624"/>
                </a:lnTo>
                <a:lnTo>
                  <a:pt x="960" y="432"/>
                </a:lnTo>
                <a:lnTo>
                  <a:pt x="48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095880" y="304776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95880" y="3200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95880" y="38858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705720" y="27428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85764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以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O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三角形の選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80880" y="1676520"/>
            <a:ext cx="3353040" cy="2305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536920" y="3146400"/>
            <a:ext cx="54000" cy="54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2057400" y="1676520"/>
            <a:ext cx="4680" cy="14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2057400" y="314316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 flipV="1">
            <a:off x="380880" y="2895120"/>
            <a:ext cx="2210040" cy="10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 flipV="1">
            <a:off x="2666880" y="32000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4537080" y="1704960"/>
            <a:ext cx="338112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外積の符号を見る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) ^ (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) &gt;0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となるように頂点を並べ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-w)^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)&lt;0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かつ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-w)^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)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e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とき，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はつぶれているので使わな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全部つぶれているときは，近い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法線をつくる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1828800" y="4495680"/>
            <a:ext cx="3808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22"/>
          <p:cNvSpPr/>
          <p:nvPr/>
        </p:nvSpPr>
        <p:spPr>
          <a:xfrm>
            <a:off x="1927080" y="5127480"/>
            <a:ext cx="54000" cy="5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23"/>
          <p:cNvSpPr/>
          <p:nvPr/>
        </p:nvSpPr>
        <p:spPr>
          <a:xfrm>
            <a:off x="1809720" y="4495680"/>
            <a:ext cx="54000" cy="5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4"/>
          <p:cNvSpPr/>
          <p:nvPr/>
        </p:nvSpPr>
        <p:spPr>
          <a:xfrm>
            <a:off x="2195640" y="6346800"/>
            <a:ext cx="54000" cy="5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25"/>
          <p:cNvSpPr/>
          <p:nvPr/>
        </p:nvSpPr>
        <p:spPr>
          <a:xfrm>
            <a:off x="2057400" y="5715000"/>
            <a:ext cx="54000" cy="54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辺・頂点が重なった場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7"/>
          <p:cNvSpPr/>
          <p:nvPr/>
        </p:nvSpPr>
        <p:spPr>
          <a:xfrm>
            <a:off x="153720" y="222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2638440" y="1278000"/>
            <a:ext cx="1558800" cy="1122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3398760" y="1908000"/>
            <a:ext cx="798480" cy="506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3390840" y="1270080"/>
            <a:ext cx="651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0"/>
          <p:cNvSpPr/>
          <p:nvPr/>
        </p:nvSpPr>
        <p:spPr>
          <a:xfrm flipH="1">
            <a:off x="2638440" y="1908000"/>
            <a:ext cx="760320" cy="492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"/>
          <p:cNvSpPr/>
          <p:nvPr/>
        </p:nvSpPr>
        <p:spPr>
          <a:xfrm flipV="1">
            <a:off x="3398760" y="1278000"/>
            <a:ext cx="6480" cy="630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73"/>
          <p:cNvGrpSpPr/>
          <p:nvPr/>
        </p:nvGrpSpPr>
        <p:grpSpPr>
          <a:xfrm>
            <a:off x="6801120" y="1066680"/>
            <a:ext cx="2152080" cy="1809360"/>
            <a:chOff x="6801120" y="1066680"/>
            <a:chExt cx="2152080" cy="1809360"/>
          </a:xfrm>
        </p:grpSpPr>
        <p:sp>
          <p:nvSpPr>
            <p:cNvPr id="256" name="AutoShape 14"/>
            <p:cNvSpPr/>
            <p:nvPr/>
          </p:nvSpPr>
          <p:spPr>
            <a:xfrm>
              <a:off x="7039080" y="1279440"/>
              <a:ext cx="1560240" cy="1122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6"/>
            <p:cNvSpPr/>
            <p:nvPr/>
          </p:nvSpPr>
          <p:spPr>
            <a:xfrm flipV="1">
              <a:off x="7039080" y="2011320"/>
              <a:ext cx="879840" cy="39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7039080" y="2416320"/>
              <a:ext cx="1560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7934760" y="1954080"/>
              <a:ext cx="648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 flipV="1">
              <a:off x="7039080" y="1279440"/>
              <a:ext cx="767520" cy="1136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8600400" y="2416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22"/>
            <p:cNvSpPr/>
            <p:nvPr/>
          </p:nvSpPr>
          <p:spPr>
            <a:xfrm>
              <a:off x="7833960" y="1066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23"/>
            <p:cNvSpPr/>
            <p:nvPr/>
          </p:nvSpPr>
          <p:spPr>
            <a:xfrm>
              <a:off x="680112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AutoShape 34"/>
          <p:cNvSpPr/>
          <p:nvPr/>
        </p:nvSpPr>
        <p:spPr>
          <a:xfrm>
            <a:off x="4944960" y="1265400"/>
            <a:ext cx="1559160" cy="1122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5"/>
          <p:cNvSpPr/>
          <p:nvPr/>
        </p:nvSpPr>
        <p:spPr>
          <a:xfrm flipV="1">
            <a:off x="5699160" y="1265040"/>
            <a:ext cx="25200" cy="10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6"/>
          <p:cNvSpPr/>
          <p:nvPr/>
        </p:nvSpPr>
        <p:spPr>
          <a:xfrm flipV="1">
            <a:off x="5711760" y="2041560"/>
            <a:ext cx="128520" cy="34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7"/>
          <p:cNvSpPr/>
          <p:nvPr/>
        </p:nvSpPr>
        <p:spPr>
          <a:xfrm>
            <a:off x="5711760" y="2401920"/>
            <a:ext cx="792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38"/>
          <p:cNvSpPr/>
          <p:nvPr/>
        </p:nvSpPr>
        <p:spPr>
          <a:xfrm>
            <a:off x="5840280" y="1940040"/>
            <a:ext cx="651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9"/>
          <p:cNvSpPr/>
          <p:nvPr/>
        </p:nvSpPr>
        <p:spPr>
          <a:xfrm flipH="1" flipV="1">
            <a:off x="4944960" y="2387520"/>
            <a:ext cx="741600" cy="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5705640" y="1265400"/>
            <a:ext cx="6120" cy="1123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3398760" y="1321920"/>
            <a:ext cx="0" cy="5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4165200" y="2292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3"/>
          <p:cNvSpPr/>
          <p:nvPr/>
        </p:nvSpPr>
        <p:spPr>
          <a:xfrm>
            <a:off x="34801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2415960" y="222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6502320" y="2216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5733720" y="1066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8"/>
          <p:cNvSpPr/>
          <p:nvPr/>
        </p:nvSpPr>
        <p:spPr>
          <a:xfrm>
            <a:off x="4741560" y="2209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9"/>
          <p:cNvSpPr/>
          <p:nvPr/>
        </p:nvSpPr>
        <p:spPr>
          <a:xfrm>
            <a:off x="403200" y="1278000"/>
            <a:ext cx="1560600" cy="1122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50"/>
          <p:cNvSpPr/>
          <p:nvPr/>
        </p:nvSpPr>
        <p:spPr>
          <a:xfrm>
            <a:off x="1163520" y="1908000"/>
            <a:ext cx="800280" cy="506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1"/>
          <p:cNvSpPr/>
          <p:nvPr/>
        </p:nvSpPr>
        <p:spPr>
          <a:xfrm>
            <a:off x="1157400" y="1270080"/>
            <a:ext cx="63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52"/>
          <p:cNvSpPr/>
          <p:nvPr/>
        </p:nvSpPr>
        <p:spPr>
          <a:xfrm flipH="1">
            <a:off x="403200" y="1908000"/>
            <a:ext cx="760320" cy="492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53"/>
          <p:cNvSpPr/>
          <p:nvPr/>
        </p:nvSpPr>
        <p:spPr>
          <a:xfrm flipV="1">
            <a:off x="1163520" y="1278000"/>
            <a:ext cx="6480" cy="630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54"/>
          <p:cNvSpPr/>
          <p:nvPr/>
        </p:nvSpPr>
        <p:spPr>
          <a:xfrm flipV="1">
            <a:off x="1163520" y="1752480"/>
            <a:ext cx="168480" cy="1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1942920" y="2292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6"/>
          <p:cNvSpPr/>
          <p:nvPr/>
        </p:nvSpPr>
        <p:spPr>
          <a:xfrm>
            <a:off x="1245960" y="1143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97"/>
          <p:cNvGrpSpPr/>
          <p:nvPr/>
        </p:nvGrpSpPr>
        <p:grpSpPr>
          <a:xfrm>
            <a:off x="4876920" y="2886120"/>
            <a:ext cx="1967760" cy="1612080"/>
            <a:chOff x="4876920" y="2886120"/>
            <a:chExt cx="1967760" cy="1612080"/>
          </a:xfrm>
        </p:grpSpPr>
        <p:sp>
          <p:nvSpPr>
            <p:cNvPr id="287" name="Text Box 75"/>
            <p:cNvSpPr/>
            <p:nvPr/>
          </p:nvSpPr>
          <p:spPr>
            <a:xfrm>
              <a:off x="5452200" y="28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6"/>
            <p:cNvSpPr/>
            <p:nvPr/>
          </p:nvSpPr>
          <p:spPr>
            <a:xfrm>
              <a:off x="5094360" y="3193200"/>
              <a:ext cx="1415520" cy="905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7"/>
            <p:cNvSpPr/>
            <p:nvPr/>
          </p:nvSpPr>
          <p:spPr>
            <a:xfrm>
              <a:off x="5094360" y="4110120"/>
              <a:ext cx="1415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8"/>
            <p:cNvSpPr/>
            <p:nvPr/>
          </p:nvSpPr>
          <p:spPr>
            <a:xfrm flipV="1">
              <a:off x="5094360" y="3192840"/>
              <a:ext cx="696240" cy="916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79"/>
            <p:cNvSpPr/>
            <p:nvPr/>
          </p:nvSpPr>
          <p:spPr>
            <a:xfrm>
              <a:off x="6511680" y="403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80"/>
            <p:cNvSpPr/>
            <p:nvPr/>
          </p:nvSpPr>
          <p:spPr>
            <a:xfrm>
              <a:off x="4960440" y="3965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81"/>
            <p:cNvSpPr/>
            <p:nvPr/>
          </p:nvSpPr>
          <p:spPr>
            <a:xfrm flipV="1">
              <a:off x="5094360" y="4053600"/>
              <a:ext cx="89640" cy="4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82"/>
            <p:cNvSpPr/>
            <p:nvPr/>
          </p:nvSpPr>
          <p:spPr>
            <a:xfrm>
              <a:off x="5186520" y="3994920"/>
              <a:ext cx="58680" cy="58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85"/>
            <p:cNvSpPr/>
            <p:nvPr/>
          </p:nvSpPr>
          <p:spPr>
            <a:xfrm>
              <a:off x="4876920" y="4053960"/>
              <a:ext cx="122760" cy="122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Oval 86"/>
          <p:cNvSpPr/>
          <p:nvPr/>
        </p:nvSpPr>
        <p:spPr>
          <a:xfrm>
            <a:off x="56386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26"/>
          <p:cNvSpPr/>
          <p:nvPr/>
        </p:nvSpPr>
        <p:spPr>
          <a:xfrm>
            <a:off x="363600" y="3071880"/>
            <a:ext cx="1412640" cy="1006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8"/>
          <p:cNvSpPr/>
          <p:nvPr/>
        </p:nvSpPr>
        <p:spPr>
          <a:xfrm>
            <a:off x="363600" y="4092480"/>
            <a:ext cx="1412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29"/>
          <p:cNvSpPr/>
          <p:nvPr/>
        </p:nvSpPr>
        <p:spPr>
          <a:xfrm>
            <a:off x="655560" y="3567240"/>
            <a:ext cx="58680" cy="64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0"/>
          <p:cNvSpPr/>
          <p:nvPr/>
        </p:nvSpPr>
        <p:spPr>
          <a:xfrm flipV="1">
            <a:off x="363600" y="3071520"/>
            <a:ext cx="695160" cy="102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1777680" y="401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3"/>
          <p:cNvSpPr/>
          <p:nvPr/>
        </p:nvSpPr>
        <p:spPr>
          <a:xfrm>
            <a:off x="230400" y="411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7"/>
          <p:cNvSpPr/>
          <p:nvPr/>
        </p:nvSpPr>
        <p:spPr>
          <a:xfrm flipV="1">
            <a:off x="363600" y="3606840"/>
            <a:ext cx="314280" cy="474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2"/>
          <p:cNvSpPr/>
          <p:nvPr/>
        </p:nvSpPr>
        <p:spPr>
          <a:xfrm>
            <a:off x="771840" y="287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3"/>
          <p:cNvSpPr/>
          <p:nvPr/>
        </p:nvSpPr>
        <p:spPr>
          <a:xfrm>
            <a:off x="2636640" y="2743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66"/>
          <p:cNvSpPr/>
          <p:nvPr/>
        </p:nvSpPr>
        <p:spPr>
          <a:xfrm>
            <a:off x="2279520" y="3086280"/>
            <a:ext cx="1413000" cy="1006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7"/>
          <p:cNvSpPr/>
          <p:nvPr/>
        </p:nvSpPr>
        <p:spPr>
          <a:xfrm>
            <a:off x="2279520" y="4106880"/>
            <a:ext cx="141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9"/>
          <p:cNvSpPr/>
          <p:nvPr/>
        </p:nvSpPr>
        <p:spPr>
          <a:xfrm flipV="1">
            <a:off x="2279520" y="3085920"/>
            <a:ext cx="695520" cy="102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0"/>
          <p:cNvSpPr/>
          <p:nvPr/>
        </p:nvSpPr>
        <p:spPr>
          <a:xfrm>
            <a:off x="36943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71"/>
          <p:cNvSpPr/>
          <p:nvPr/>
        </p:nvSpPr>
        <p:spPr>
          <a:xfrm>
            <a:off x="2146320" y="411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72"/>
          <p:cNvSpPr/>
          <p:nvPr/>
        </p:nvSpPr>
        <p:spPr>
          <a:xfrm>
            <a:off x="2279520" y="4095720"/>
            <a:ext cx="655920" cy="1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68"/>
          <p:cNvSpPr/>
          <p:nvPr/>
        </p:nvSpPr>
        <p:spPr>
          <a:xfrm>
            <a:off x="2938320" y="4079880"/>
            <a:ext cx="5904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83"/>
          <p:cNvSpPr/>
          <p:nvPr/>
        </p:nvSpPr>
        <p:spPr>
          <a:xfrm>
            <a:off x="290520" y="4043520"/>
            <a:ext cx="122400" cy="136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84"/>
          <p:cNvSpPr/>
          <p:nvPr/>
        </p:nvSpPr>
        <p:spPr>
          <a:xfrm>
            <a:off x="2128680" y="4043520"/>
            <a:ext cx="122400" cy="136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8"/>
          <p:cNvSpPr/>
          <p:nvPr/>
        </p:nvSpPr>
        <p:spPr>
          <a:xfrm>
            <a:off x="2636640" y="4316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89"/>
          <p:cNvSpPr/>
          <p:nvPr/>
        </p:nvSpPr>
        <p:spPr>
          <a:xfrm>
            <a:off x="2279520" y="4659480"/>
            <a:ext cx="1413000" cy="1008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90"/>
          <p:cNvSpPr/>
          <p:nvPr/>
        </p:nvSpPr>
        <p:spPr>
          <a:xfrm>
            <a:off x="2279520" y="5680080"/>
            <a:ext cx="141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91"/>
          <p:cNvSpPr/>
          <p:nvPr/>
        </p:nvSpPr>
        <p:spPr>
          <a:xfrm flipV="1">
            <a:off x="2279520" y="4659120"/>
            <a:ext cx="695520" cy="102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2"/>
          <p:cNvSpPr/>
          <p:nvPr/>
        </p:nvSpPr>
        <p:spPr>
          <a:xfrm>
            <a:off x="3692160" y="5600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93"/>
          <p:cNvSpPr/>
          <p:nvPr/>
        </p:nvSpPr>
        <p:spPr>
          <a:xfrm>
            <a:off x="2146320" y="568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4"/>
          <p:cNvSpPr/>
          <p:nvPr/>
        </p:nvSpPr>
        <p:spPr>
          <a:xfrm>
            <a:off x="2279520" y="5670720"/>
            <a:ext cx="655920" cy="1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95"/>
          <p:cNvSpPr/>
          <p:nvPr/>
        </p:nvSpPr>
        <p:spPr>
          <a:xfrm>
            <a:off x="2938320" y="5654520"/>
            <a:ext cx="59040" cy="65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96"/>
          <p:cNvSpPr/>
          <p:nvPr/>
        </p:nvSpPr>
        <p:spPr>
          <a:xfrm>
            <a:off x="2128680" y="5618160"/>
            <a:ext cx="122400" cy="136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109"/>
          <p:cNvSpPr/>
          <p:nvPr/>
        </p:nvSpPr>
        <p:spPr>
          <a:xfrm>
            <a:off x="7034040" y="3024360"/>
            <a:ext cx="1559160" cy="1122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10"/>
          <p:cNvSpPr/>
          <p:nvPr/>
        </p:nvSpPr>
        <p:spPr>
          <a:xfrm>
            <a:off x="7794720" y="3654360"/>
            <a:ext cx="798480" cy="506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12"/>
          <p:cNvSpPr/>
          <p:nvPr/>
        </p:nvSpPr>
        <p:spPr>
          <a:xfrm flipH="1">
            <a:off x="7033680" y="3654360"/>
            <a:ext cx="760680" cy="49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13"/>
          <p:cNvSpPr/>
          <p:nvPr/>
        </p:nvSpPr>
        <p:spPr>
          <a:xfrm flipV="1">
            <a:off x="7794720" y="3024360"/>
            <a:ext cx="6120" cy="630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4"/>
          <p:cNvSpPr/>
          <p:nvPr/>
        </p:nvSpPr>
        <p:spPr>
          <a:xfrm>
            <a:off x="7794720" y="3643200"/>
            <a:ext cx="0" cy="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5"/>
          <p:cNvSpPr/>
          <p:nvPr/>
        </p:nvSpPr>
        <p:spPr>
          <a:xfrm>
            <a:off x="85615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16"/>
          <p:cNvSpPr/>
          <p:nvPr/>
        </p:nvSpPr>
        <p:spPr>
          <a:xfrm>
            <a:off x="7875720" y="28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17"/>
          <p:cNvSpPr/>
          <p:nvPr/>
        </p:nvSpPr>
        <p:spPr>
          <a:xfrm>
            <a:off x="6812280" y="39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111"/>
          <p:cNvSpPr/>
          <p:nvPr/>
        </p:nvSpPr>
        <p:spPr>
          <a:xfrm>
            <a:off x="7761240" y="3645000"/>
            <a:ext cx="651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8"/>
          <p:cNvSpPr/>
          <p:nvPr/>
        </p:nvSpPr>
        <p:spPr>
          <a:xfrm>
            <a:off x="4265280" y="4495680"/>
            <a:ext cx="40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そろわな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New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近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[i]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置き換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650600" y="914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1293840" y="1257480"/>
            <a:ext cx="1413000" cy="1008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1523880" y="2133720"/>
            <a:ext cx="1182960" cy="14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7"/>
          <p:cNvSpPr/>
          <p:nvPr/>
        </p:nvSpPr>
        <p:spPr>
          <a:xfrm flipV="1">
            <a:off x="1523880" y="1257480"/>
            <a:ext cx="465120" cy="876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2706480" y="2198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160280" y="2284560"/>
            <a:ext cx="3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0"/>
          <p:cNvSpPr/>
          <p:nvPr/>
        </p:nvSpPr>
        <p:spPr>
          <a:xfrm flipH="1">
            <a:off x="914040" y="2133720"/>
            <a:ext cx="6094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11"/>
          <p:cNvSpPr/>
          <p:nvPr/>
        </p:nvSpPr>
        <p:spPr>
          <a:xfrm>
            <a:off x="888840" y="2476440"/>
            <a:ext cx="59040" cy="65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新接触判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連続接触判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回転を考えないタイプは非常に少ない計算量で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実現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JK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改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最近傍点の求め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4"/>
          <p:cNvSpPr/>
          <p:nvPr/>
        </p:nvSpPr>
        <p:spPr>
          <a:xfrm flipV="1">
            <a:off x="838080" y="1828800"/>
            <a:ext cx="3048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5"/>
          <p:cNvSpPr/>
          <p:nvPr/>
        </p:nvSpPr>
        <p:spPr>
          <a:xfrm flipH="1">
            <a:off x="837720" y="1600200"/>
            <a:ext cx="660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1447920" y="1523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672840" y="2209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2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523880" y="16002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1523880" y="1600200"/>
            <a:ext cx="4953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4870800" y="1447920"/>
            <a:ext cx="3695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ta+(1-t)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*(b-a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a+(1-t)b)*(b-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tab+(1-t)bb)-(taa+(1-t)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2ab-bb-aa)t+bb-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b-a)^2 = b(b-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b(b-a)/(b-a)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b – ba / (aa +bb-2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(b(b-a)/(b-a)^2)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a(a-b)/(b-a)^2)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bl/l^2)a - (al/l^2)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2209320" y="2590920"/>
            <a:ext cx="12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(b-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reeform 13"/>
          <p:cNvSpPr/>
          <p:nvPr/>
        </p:nvSpPr>
        <p:spPr>
          <a:xfrm>
            <a:off x="838080" y="1828800"/>
            <a:ext cx="3048120" cy="198108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最近傍点の求め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838080" y="1828800"/>
            <a:ext cx="3048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"/>
          <p:cNvSpPr/>
          <p:nvPr/>
        </p:nvSpPr>
        <p:spPr>
          <a:xfrm flipH="1">
            <a:off x="837720" y="1600200"/>
            <a:ext cx="660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5"/>
          <p:cNvSpPr/>
          <p:nvPr/>
        </p:nvSpPr>
        <p:spPr>
          <a:xfrm>
            <a:off x="1447920" y="1523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72840" y="2209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22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1523880" y="16002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1523880" y="1600200"/>
            <a:ext cx="4572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2207880" y="2376360"/>
            <a:ext cx="9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 = (b-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663200" y="312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4"/>
          <p:cNvSpPr/>
          <p:nvPr/>
        </p:nvSpPr>
        <p:spPr>
          <a:xfrm>
            <a:off x="1523880" y="1600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"/>
          <p:cNvSpPr/>
          <p:nvPr/>
        </p:nvSpPr>
        <p:spPr>
          <a:xfrm>
            <a:off x="1523880" y="1600200"/>
            <a:ext cx="6098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6"/>
          <p:cNvSpPr/>
          <p:nvPr/>
        </p:nvSpPr>
        <p:spPr>
          <a:xfrm>
            <a:off x="2362320" y="3505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592720" y="33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610560" y="4191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an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4265640" y="1066680"/>
            <a:ext cx="1581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sa+tb+u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-b)*p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-c)*p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-a)*p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2135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21"/>
              <p:cNvSpPr txBox="1"/>
              <p:nvPr/>
            </p:nvSpPr>
            <p:spPr>
              <a:xfrm>
                <a:off x="3701880" y="3606840"/>
                <a:ext cx="17402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  <m:e>
                                  <m:r>
                                    <m:t xml:space="preserve">c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na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c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最近傍点を探すか、交点を探す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最近傍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相対速度ベクトルとの交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1000800" y="1587600"/>
            <a:ext cx="2314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最近傍点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法線が動くので最近傍点も動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内積計算を６回やる必要あ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5342760" y="1587600"/>
            <a:ext cx="2771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交点 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相対速度ベクトルの向きは変わら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どちらに入っているかの判定は，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増え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線だけでよ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6"/>
          <p:cNvGrpSpPr/>
          <p:nvPr/>
        </p:nvGrpSpPr>
        <p:grpSpPr>
          <a:xfrm>
            <a:off x="380880" y="3352680"/>
            <a:ext cx="8077320" cy="3276360"/>
            <a:chOff x="380880" y="3352680"/>
            <a:chExt cx="8077320" cy="3276360"/>
          </a:xfrm>
        </p:grpSpPr>
        <p:sp>
          <p:nvSpPr>
            <p:cNvPr id="377" name="Freeform 19"/>
            <p:cNvSpPr/>
            <p:nvPr/>
          </p:nvSpPr>
          <p:spPr>
            <a:xfrm>
              <a:off x="1841400" y="3428640"/>
              <a:ext cx="2362320" cy="3200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 flipH="1">
              <a:off x="1828800" y="3352680"/>
              <a:ext cx="4572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 flipV="1">
              <a:off x="380880" y="5638320"/>
              <a:ext cx="1447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 flipH="1" flipV="1">
              <a:off x="1828800" y="5638320"/>
              <a:ext cx="23623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2514600" y="5638680"/>
              <a:ext cx="7632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2209680" y="510516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6"/>
            <p:cNvSpPr/>
            <p:nvPr/>
          </p:nvSpPr>
          <p:spPr>
            <a:xfrm flipH="1" flipV="1">
              <a:off x="2285640" y="518148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utoShape 25"/>
            <p:cNvSpPr/>
            <p:nvPr/>
          </p:nvSpPr>
          <p:spPr>
            <a:xfrm>
              <a:off x="380880" y="3352680"/>
              <a:ext cx="3810240" cy="3276360"/>
            </a:xfrm>
            <a:prstGeom prst="triangle">
              <a:avLst>
                <a:gd name="adj" fmla="val 500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6095880" y="3400200"/>
              <a:ext cx="2362320" cy="3200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utoShape 4"/>
            <p:cNvSpPr/>
            <p:nvPr/>
          </p:nvSpPr>
          <p:spPr>
            <a:xfrm>
              <a:off x="4648320" y="3352680"/>
              <a:ext cx="3809880" cy="3276360"/>
            </a:xfrm>
            <a:prstGeom prst="triangle">
              <a:avLst>
                <a:gd name="adj" fmla="val 500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5"/>
            <p:cNvSpPr/>
            <p:nvPr/>
          </p:nvSpPr>
          <p:spPr>
            <a:xfrm flipH="1">
              <a:off x="6095880" y="3352680"/>
              <a:ext cx="4572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"/>
            <p:cNvSpPr/>
            <p:nvPr/>
          </p:nvSpPr>
          <p:spPr>
            <a:xfrm flipV="1">
              <a:off x="4648320" y="563832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 flipH="1" flipV="1">
              <a:off x="6095880" y="5638320"/>
              <a:ext cx="23623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8"/>
            <p:cNvSpPr/>
            <p:nvPr/>
          </p:nvSpPr>
          <p:spPr>
            <a:xfrm>
              <a:off x="6781680" y="533376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1"/>
            <p:cNvSpPr/>
            <p:nvPr/>
          </p:nvSpPr>
          <p:spPr>
            <a:xfrm flipH="1" flipV="1">
              <a:off x="6552720" y="3352680"/>
              <a:ext cx="22860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 flipH="1">
              <a:off x="6095520" y="502884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8"/>
            <p:cNvSpPr/>
            <p:nvPr/>
          </p:nvSpPr>
          <p:spPr>
            <a:xfrm>
              <a:off x="6781680" y="502884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CDGJK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と法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速度の考え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6"/>
          <p:cNvGrpSpPr/>
          <p:nvPr/>
        </p:nvGrpSpPr>
        <p:grpSpPr>
          <a:xfrm>
            <a:off x="533520" y="1600200"/>
            <a:ext cx="1523880" cy="1143000"/>
            <a:chOff x="533520" y="1600200"/>
            <a:chExt cx="1523880" cy="1143000"/>
          </a:xfrm>
        </p:grpSpPr>
        <p:sp>
          <p:nvSpPr>
            <p:cNvPr id="398" name="Rectangle 4"/>
            <p:cNvSpPr/>
            <p:nvPr/>
          </p:nvSpPr>
          <p:spPr>
            <a:xfrm>
              <a:off x="990720" y="1752480"/>
              <a:ext cx="533520" cy="990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5"/>
            <p:cNvSpPr/>
            <p:nvPr/>
          </p:nvSpPr>
          <p:spPr>
            <a:xfrm>
              <a:off x="533520" y="1600200"/>
              <a:ext cx="1523880" cy="30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7"/>
          <p:cNvGrpSpPr/>
          <p:nvPr/>
        </p:nvGrpSpPr>
        <p:grpSpPr>
          <a:xfrm>
            <a:off x="2999880" y="1267200"/>
            <a:ext cx="1562400" cy="1508760"/>
            <a:chOff x="2999880" y="1267200"/>
            <a:chExt cx="1562400" cy="1508760"/>
          </a:xfrm>
        </p:grpSpPr>
        <p:sp>
          <p:nvSpPr>
            <p:cNvPr id="401" name="Rectangle 8"/>
            <p:cNvSpPr/>
            <p:nvPr/>
          </p:nvSpPr>
          <p:spPr>
            <a:xfrm rot="2700000">
              <a:off x="3271680" y="1741320"/>
              <a:ext cx="533520" cy="990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9"/>
            <p:cNvSpPr/>
            <p:nvPr/>
          </p:nvSpPr>
          <p:spPr>
            <a:xfrm rot="2700000">
              <a:off x="3153600" y="1761120"/>
              <a:ext cx="1523880" cy="304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15"/>
          <p:cNvSpPr/>
          <p:nvPr/>
        </p:nvSpPr>
        <p:spPr>
          <a:xfrm rot="2700000">
            <a:off x="990000" y="1752840"/>
            <a:ext cx="53352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6"/>
          <p:cNvSpPr/>
          <p:nvPr/>
        </p:nvSpPr>
        <p:spPr>
          <a:xfrm rot="2700000">
            <a:off x="533160" y="1523880"/>
            <a:ext cx="152388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20"/>
          <p:cNvGrpSpPr/>
          <p:nvPr/>
        </p:nvGrpSpPr>
        <p:grpSpPr>
          <a:xfrm>
            <a:off x="2846880" y="3629160"/>
            <a:ext cx="1562400" cy="1508760"/>
            <a:chOff x="2846880" y="3629160"/>
            <a:chExt cx="1562400" cy="1508760"/>
          </a:xfrm>
        </p:grpSpPr>
        <p:sp>
          <p:nvSpPr>
            <p:cNvPr id="406" name="Rectangle 21"/>
            <p:cNvSpPr/>
            <p:nvPr/>
          </p:nvSpPr>
          <p:spPr>
            <a:xfrm rot="2700000">
              <a:off x="3118680" y="4103280"/>
              <a:ext cx="533520" cy="990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2"/>
            <p:cNvSpPr/>
            <p:nvPr/>
          </p:nvSpPr>
          <p:spPr>
            <a:xfrm rot="2700000">
              <a:off x="3000600" y="4123080"/>
              <a:ext cx="1523880" cy="304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28"/>
          <p:cNvGrpSpPr/>
          <p:nvPr/>
        </p:nvGrpSpPr>
        <p:grpSpPr>
          <a:xfrm>
            <a:off x="609480" y="3809880"/>
            <a:ext cx="1676520" cy="1295640"/>
            <a:chOff x="609480" y="3809880"/>
            <a:chExt cx="1676520" cy="1295640"/>
          </a:xfrm>
        </p:grpSpPr>
        <p:sp>
          <p:nvSpPr>
            <p:cNvPr id="409" name="Rectangle 18"/>
            <p:cNvSpPr/>
            <p:nvPr/>
          </p:nvSpPr>
          <p:spPr>
            <a:xfrm>
              <a:off x="1066680" y="4114800"/>
              <a:ext cx="533520" cy="990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609480" y="3962520"/>
              <a:ext cx="1524240" cy="30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6"/>
            <p:cNvSpPr/>
            <p:nvPr/>
          </p:nvSpPr>
          <p:spPr>
            <a:xfrm>
              <a:off x="2057400" y="3809880"/>
              <a:ext cx="2286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Rectangle 27"/>
          <p:cNvSpPr/>
          <p:nvPr/>
        </p:nvSpPr>
        <p:spPr>
          <a:xfrm rot="2700000">
            <a:off x="4266720" y="4572000"/>
            <a:ext cx="228600" cy="228600"/>
          </a:xfrm>
          <a:prstGeom prst="rect">
            <a:avLst/>
          </a:prstGeom>
          <a:solidFill>
            <a:srgbClr val="000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0"/>
          <p:cNvSpPr/>
          <p:nvPr/>
        </p:nvSpPr>
        <p:spPr>
          <a:xfrm rot="2700000">
            <a:off x="1105920" y="4178520"/>
            <a:ext cx="5335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1"/>
          <p:cNvSpPr/>
          <p:nvPr/>
        </p:nvSpPr>
        <p:spPr>
          <a:xfrm rot="2700000">
            <a:off x="609480" y="3886200"/>
            <a:ext cx="15238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2"/>
          <p:cNvSpPr/>
          <p:nvPr/>
        </p:nvSpPr>
        <p:spPr>
          <a:xfrm rot="2700000">
            <a:off x="2057040" y="3809880"/>
            <a:ext cx="2286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36"/>
          <p:cNvGrpSpPr/>
          <p:nvPr/>
        </p:nvGrpSpPr>
        <p:grpSpPr>
          <a:xfrm>
            <a:off x="5791320" y="3733920"/>
            <a:ext cx="1675800" cy="1294920"/>
            <a:chOff x="5791320" y="3733920"/>
            <a:chExt cx="1675800" cy="1294920"/>
          </a:xfrm>
        </p:grpSpPr>
        <p:sp>
          <p:nvSpPr>
            <p:cNvPr id="417" name="Rectangle 37"/>
            <p:cNvSpPr/>
            <p:nvPr/>
          </p:nvSpPr>
          <p:spPr>
            <a:xfrm>
              <a:off x="6248160" y="4038480"/>
              <a:ext cx="533160" cy="99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8"/>
            <p:cNvSpPr/>
            <p:nvPr/>
          </p:nvSpPr>
          <p:spPr>
            <a:xfrm>
              <a:off x="5791320" y="3886200"/>
              <a:ext cx="1523880" cy="304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39"/>
            <p:cNvSpPr/>
            <p:nvPr/>
          </p:nvSpPr>
          <p:spPr>
            <a:xfrm>
              <a:off x="7238880" y="3733920"/>
              <a:ext cx="22824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Rectangle 41"/>
          <p:cNvSpPr/>
          <p:nvPr/>
        </p:nvSpPr>
        <p:spPr>
          <a:xfrm rot="2700000">
            <a:off x="6288480" y="4101840"/>
            <a:ext cx="53316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2"/>
          <p:cNvSpPr/>
          <p:nvPr/>
        </p:nvSpPr>
        <p:spPr>
          <a:xfrm rot="2700000">
            <a:off x="5790960" y="3809880"/>
            <a:ext cx="15238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3"/>
          <p:cNvSpPr/>
          <p:nvPr/>
        </p:nvSpPr>
        <p:spPr>
          <a:xfrm rot="2700000">
            <a:off x="7238520" y="3733920"/>
            <a:ext cx="2286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Group 44"/>
          <p:cNvGrpSpPr/>
          <p:nvPr/>
        </p:nvGrpSpPr>
        <p:grpSpPr>
          <a:xfrm>
            <a:off x="5743080" y="3476880"/>
            <a:ext cx="1695600" cy="1508760"/>
            <a:chOff x="5743080" y="3476880"/>
            <a:chExt cx="1695600" cy="1508760"/>
          </a:xfrm>
        </p:grpSpPr>
        <p:sp>
          <p:nvSpPr>
            <p:cNvPr id="424" name="Rectangle 40"/>
            <p:cNvSpPr/>
            <p:nvPr/>
          </p:nvSpPr>
          <p:spPr>
            <a:xfrm rot="2700000">
              <a:off x="7162560" y="4419720"/>
              <a:ext cx="228600" cy="228600"/>
            </a:xfrm>
            <a:prstGeom prst="rect">
              <a:avLst/>
            </a:prstGeom>
            <a:solidFill>
              <a:srgbClr val="000080">
                <a:alpha val="5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Group 33"/>
            <p:cNvGrpSpPr/>
            <p:nvPr/>
          </p:nvGrpSpPr>
          <p:grpSpPr>
            <a:xfrm>
              <a:off x="5743080" y="3476880"/>
              <a:ext cx="1562400" cy="1508760"/>
              <a:chOff x="5743080" y="3476880"/>
              <a:chExt cx="1562400" cy="1508760"/>
            </a:xfrm>
          </p:grpSpPr>
          <p:sp>
            <p:nvSpPr>
              <p:cNvPr id="426" name="Rectangle 34"/>
              <p:cNvSpPr/>
              <p:nvPr/>
            </p:nvSpPr>
            <p:spPr>
              <a:xfrm rot="2700000">
                <a:off x="6014880" y="3951000"/>
                <a:ext cx="533520" cy="99072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35"/>
              <p:cNvSpPr/>
              <p:nvPr/>
            </p:nvSpPr>
            <p:spPr>
              <a:xfrm rot="2700000">
                <a:off x="5896800" y="3970800"/>
                <a:ext cx="1523880" cy="30456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Text Box 45"/>
          <p:cNvSpPr/>
          <p:nvPr/>
        </p:nvSpPr>
        <p:spPr>
          <a:xfrm>
            <a:off x="5341680" y="106668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凸形状単位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まずその場で回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その後並進したと考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sh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との接触判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一般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sh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reeform 4"/>
          <p:cNvSpPr/>
          <p:nvPr/>
        </p:nvSpPr>
        <p:spPr>
          <a:xfrm>
            <a:off x="5105520" y="1905120"/>
            <a:ext cx="1981080" cy="14475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"/>
          <p:cNvSpPr/>
          <p:nvPr/>
        </p:nvSpPr>
        <p:spPr>
          <a:xfrm flipH="1">
            <a:off x="4343400" y="114300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6"/>
          <p:cNvSpPr/>
          <p:nvPr/>
        </p:nvSpPr>
        <p:spPr>
          <a:xfrm>
            <a:off x="4572000" y="37339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7"/>
          <p:cNvSpPr/>
          <p:nvPr/>
        </p:nvSpPr>
        <p:spPr>
          <a:xfrm flipH="1">
            <a:off x="4419360" y="236232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8"/>
          <p:cNvSpPr/>
          <p:nvPr/>
        </p:nvSpPr>
        <p:spPr>
          <a:xfrm rot="19692000">
            <a:off x="4419360" y="2361960"/>
            <a:ext cx="761760" cy="205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9"/>
          <p:cNvSpPr/>
          <p:nvPr/>
        </p:nvSpPr>
        <p:spPr>
          <a:xfrm rot="21071400">
            <a:off x="3962520" y="1224000"/>
            <a:ext cx="1530360" cy="3300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Oval 5"/>
          <p:cNvSpPr/>
          <p:nvPr/>
        </p:nvSpPr>
        <p:spPr>
          <a:xfrm>
            <a:off x="1141560" y="1755720"/>
            <a:ext cx="144756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unding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につい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最初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ing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本当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良いの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番目以降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598760" y="1832040"/>
            <a:ext cx="53316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3043800" y="1600200"/>
            <a:ext cx="25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A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更新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６回計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判定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和・比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更新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判定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和・比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7"/>
          <p:cNvSpPr/>
          <p:nvPr/>
        </p:nvSpPr>
        <p:spPr>
          <a:xfrm>
            <a:off x="1293840" y="4343400"/>
            <a:ext cx="14479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9"/>
          <p:cNvSpPr/>
          <p:nvPr/>
        </p:nvSpPr>
        <p:spPr>
          <a:xfrm>
            <a:off x="838080" y="4572000"/>
            <a:ext cx="33530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0"/>
          <p:cNvSpPr/>
          <p:nvPr/>
        </p:nvSpPr>
        <p:spPr>
          <a:xfrm flipV="1">
            <a:off x="1271520" y="5181120"/>
            <a:ext cx="7095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1"/>
          <p:cNvSpPr/>
          <p:nvPr/>
        </p:nvSpPr>
        <p:spPr>
          <a:xfrm flipH="1" flipV="1">
            <a:off x="1828800" y="495252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2"/>
          <p:cNvSpPr/>
          <p:nvPr/>
        </p:nvSpPr>
        <p:spPr>
          <a:xfrm flipH="1">
            <a:off x="1142640" y="5522760"/>
            <a:ext cx="11430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3"/>
          <p:cNvSpPr/>
          <p:nvPr/>
        </p:nvSpPr>
        <p:spPr>
          <a:xfrm flipV="1">
            <a:off x="1600200" y="551484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4267080" y="411480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6"/>
          <p:cNvSpPr/>
          <p:nvPr/>
        </p:nvSpPr>
        <p:spPr>
          <a:xfrm>
            <a:off x="464832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7"/>
          <p:cNvSpPr/>
          <p:nvPr/>
        </p:nvSpPr>
        <p:spPr>
          <a:xfrm>
            <a:off x="41911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接触時刻と判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 rot="19800000">
            <a:off x="2085840" y="2286000"/>
            <a:ext cx="198144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561960" y="2286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6336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2162160" y="1523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3990960" y="1523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561960" y="2209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4524480" y="2206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2314440" y="219060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609160" y="1676520"/>
            <a:ext cx="25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右側当たら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左側そのうち当たるか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：よく分から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そのうち当た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すでに当たってる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当たって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当たら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3425760" y="22068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3838680" y="22255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972040" y="32767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5972040" y="2895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2"/>
          <p:cNvSpPr/>
          <p:nvPr/>
        </p:nvSpPr>
        <p:spPr>
          <a:xfrm>
            <a:off x="5972040" y="36576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647000" y="405936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黒以外の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時刻を昔に戻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初に接触する点を求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6477120" y="5029200"/>
            <a:ext cx="9903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6629400" y="4419720"/>
            <a:ext cx="68580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69786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7924680" y="4343400"/>
            <a:ext cx="68580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未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7924680" y="5867280"/>
            <a:ext cx="68580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7772400" y="5029200"/>
            <a:ext cx="9907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481608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4"/>
          <p:cNvSpPr/>
          <p:nvPr/>
        </p:nvSpPr>
        <p:spPr>
          <a:xfrm>
            <a:off x="304920" y="914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5"/>
          <p:cNvSpPr/>
          <p:nvPr/>
        </p:nvSpPr>
        <p:spPr>
          <a:xfrm>
            <a:off x="1219320" y="914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852480" y="1185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5991120" y="40006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808080"/>
                </a:solidFill>
                <a:latin typeface="Times New Roman"/>
              </a:rPr>
              <a:t>連続接触  ２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ja-JP" sz="4000" spc="-1" strike="noStrike">
                <a:solidFill>
                  <a:srgbClr val="808080"/>
                </a:solidFill>
                <a:latin typeface="Times New Roman"/>
              </a:rPr>
              <a:t>投影版（ミスあり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125280" y="990720"/>
            <a:ext cx="35989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808080"/>
                </a:solidFill>
                <a:latin typeface="Times New Roman"/>
              </a:rPr>
              <a:t>初期処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: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=r v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support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→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(z:=0)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その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support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 (v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=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：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1" lang="ja-JP" sz="1600" spc="-1" strike="noStrike">
                <a:solidFill>
                  <a:srgbClr val="808080"/>
                </a:solidFill>
                <a:latin typeface="Times New Roman"/>
              </a:rPr>
              <a:t>が解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が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外：解なし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→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(v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=0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なら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= v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+ v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)</a:t>
            </a:r>
            <a:br>
              <a:rPr sz="1600"/>
            </a:b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その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support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76320" y="2514600"/>
            <a:ext cx="380988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808080"/>
                </a:solidFill>
                <a:latin typeface="Times New Roman"/>
              </a:rPr>
              <a:t>繰り返し処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が△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１辺からはみ出す間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はみ出すのは，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か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はみ出した辺 が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:=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→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support, 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: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,</a:t>
            </a:r>
            <a:br>
              <a:rPr sz="1600"/>
            </a:b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はみ出した辺 が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:=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→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support, 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: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が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外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r w= 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or w=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：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解な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: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=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が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２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辺からはみ出した場合：　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s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が△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内部の場合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△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法線を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v,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support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=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：　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と△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0w1w2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交点が解</a:t>
            </a:r>
            <a:br>
              <a:rPr sz="1600"/>
            </a:b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新しい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を次ページの方法で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i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を決めて置き換え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48"/>
          <p:cNvGrpSpPr/>
          <p:nvPr/>
        </p:nvGrpSpPr>
        <p:grpSpPr>
          <a:xfrm>
            <a:off x="3657600" y="1143000"/>
            <a:ext cx="3276000" cy="2630160"/>
            <a:chOff x="3657600" y="1143000"/>
            <a:chExt cx="3276000" cy="2630160"/>
          </a:xfrm>
        </p:grpSpPr>
        <p:sp>
          <p:nvSpPr>
            <p:cNvPr id="84" name="Oval 4"/>
            <p:cNvSpPr/>
            <p:nvPr/>
          </p:nvSpPr>
          <p:spPr>
            <a:xfrm>
              <a:off x="3988440" y="1721880"/>
              <a:ext cx="2846160" cy="2051280"/>
            </a:xfrm>
            <a:prstGeom prst="ellipse">
              <a:avLst/>
            </a:prstGeom>
            <a:gradFill rotWithShape="0">
              <a:gsLst>
                <a:gs pos="0">
                  <a:srgbClr val="f3f3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>
              <a:off x="4848840" y="1774080"/>
              <a:ext cx="1853280" cy="5295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11"/>
            <p:cNvSpPr/>
            <p:nvPr/>
          </p:nvSpPr>
          <p:spPr>
            <a:xfrm>
              <a:off x="3657600" y="1196640"/>
              <a:ext cx="198360" cy="19836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4060080" y="114300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808080"/>
                  </a:solidFill>
                  <a:latin typeface="Times New Roman"/>
                </a:rPr>
                <a:t>相対速度ベクトル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6"/>
            <p:cNvSpPr/>
            <p:nvPr/>
          </p:nvSpPr>
          <p:spPr>
            <a:xfrm>
              <a:off x="5378400" y="2700720"/>
              <a:ext cx="66240" cy="658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8"/>
            <p:cNvSpPr/>
            <p:nvPr/>
          </p:nvSpPr>
          <p:spPr>
            <a:xfrm>
              <a:off x="4848840" y="1774080"/>
              <a:ext cx="66240" cy="66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 flipV="1">
              <a:off x="5472360" y="2369520"/>
              <a:ext cx="1191240" cy="330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>
              <a:off x="4915080" y="1812960"/>
              <a:ext cx="1791000" cy="860040"/>
            </a:xfrm>
            <a:prstGeom prst="pi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5"/>
            <p:cNvSpPr/>
            <p:nvPr/>
          </p:nvSpPr>
          <p:spPr>
            <a:xfrm>
              <a:off x="6437520" y="2171160"/>
              <a:ext cx="66240" cy="66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7"/>
            <p:cNvSpPr/>
            <p:nvPr/>
          </p:nvSpPr>
          <p:spPr>
            <a:xfrm>
              <a:off x="6674760" y="2303640"/>
              <a:ext cx="66240" cy="65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19"/>
            <p:cNvSpPr/>
            <p:nvPr/>
          </p:nvSpPr>
          <p:spPr>
            <a:xfrm>
              <a:off x="5891400" y="1749240"/>
              <a:ext cx="65880" cy="66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>
              <a:off x="5312520" y="1617120"/>
              <a:ext cx="1389960" cy="3970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32"/>
            <p:cNvSpPr/>
            <p:nvPr/>
          </p:nvSpPr>
          <p:spPr>
            <a:xfrm flipV="1">
              <a:off x="3988440" y="1364760"/>
              <a:ext cx="2515320" cy="679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33"/>
            <p:cNvSpPr/>
            <p:nvPr/>
          </p:nvSpPr>
          <p:spPr>
            <a:xfrm>
              <a:off x="6146640" y="197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4"/>
            <p:cNvSpPr/>
            <p:nvPr/>
          </p:nvSpPr>
          <p:spPr>
            <a:xfrm flipH="1" flipV="1">
              <a:off x="6470280" y="1839960"/>
              <a:ext cx="463320" cy="9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36"/>
            <p:cNvSpPr/>
            <p:nvPr/>
          </p:nvSpPr>
          <p:spPr>
            <a:xfrm>
              <a:off x="6472080" y="231588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37"/>
            <p:cNvSpPr/>
            <p:nvPr/>
          </p:nvSpPr>
          <p:spPr>
            <a:xfrm>
              <a:off x="5185800" y="270072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80808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38"/>
            <p:cNvSpPr/>
            <p:nvPr/>
          </p:nvSpPr>
          <p:spPr>
            <a:xfrm>
              <a:off x="4722840" y="144324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40"/>
            <p:cNvSpPr/>
            <p:nvPr/>
          </p:nvSpPr>
          <p:spPr>
            <a:xfrm>
              <a:off x="5848560" y="144324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41"/>
            <p:cNvSpPr/>
            <p:nvPr/>
          </p:nvSpPr>
          <p:spPr>
            <a:xfrm>
              <a:off x="5716440" y="177408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80808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2"/>
            <p:cNvSpPr/>
            <p:nvPr/>
          </p:nvSpPr>
          <p:spPr>
            <a:xfrm>
              <a:off x="6040440" y="2039040"/>
              <a:ext cx="66240" cy="66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AutoShape 43"/>
          <p:cNvSpPr/>
          <p:nvPr/>
        </p:nvSpPr>
        <p:spPr>
          <a:xfrm>
            <a:off x="3581280" y="4952880"/>
            <a:ext cx="1219320" cy="838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44"/>
          <p:cNvSpPr/>
          <p:nvPr/>
        </p:nvSpPr>
        <p:spPr>
          <a:xfrm>
            <a:off x="4343400" y="5410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5"/>
          <p:cNvSpPr/>
          <p:nvPr/>
        </p:nvSpPr>
        <p:spPr>
          <a:xfrm>
            <a:off x="41911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6"/>
          <p:cNvSpPr/>
          <p:nvPr/>
        </p:nvSpPr>
        <p:spPr>
          <a:xfrm>
            <a:off x="4191120" y="5486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7"/>
          <p:cNvSpPr/>
          <p:nvPr/>
        </p:nvSpPr>
        <p:spPr>
          <a:xfrm flipV="1">
            <a:off x="3581280" y="548604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5029200" y="3914640"/>
            <a:ext cx="380988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808080"/>
                </a:solidFill>
                <a:latin typeface="Times New Roman"/>
              </a:rPr>
              <a:t>線分探索</a:t>
            </a:r>
            <a:r>
              <a:rPr b="1" lang="ja-JP" sz="1600" spc="-1" strike="noStrike">
                <a:solidFill>
                  <a:srgbClr val="80808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が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上に乗っているとき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v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808080"/>
                </a:solidFill>
                <a:latin typeface="Times New Roman"/>
              </a:rPr>
              <a:t>解の解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△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内部： 接触法線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=△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法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エッジ： 接触法線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r-r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のエッジ成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頂点：接触法線</a:t>
            </a:r>
            <a:r>
              <a:rPr b="0" lang="ja-JP" sz="1600" spc="-1" strike="noStrike">
                <a:solidFill>
                  <a:srgbClr val="80808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連続接触  ２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投影版（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2007.12.27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修正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125280" y="990720"/>
            <a:ext cx="35989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初期処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r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→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z:=0)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が解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外：解なし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→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なら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76320" y="2514600"/>
            <a:ext cx="380988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繰り返し処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１辺からはみ出す間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はみ出すのは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はみ出した辺 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→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,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はみ出した辺 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→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,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外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w=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w=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解な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48"/>
          <p:cNvGrpSpPr/>
          <p:nvPr/>
        </p:nvGrpSpPr>
        <p:grpSpPr>
          <a:xfrm>
            <a:off x="5029200" y="1143000"/>
            <a:ext cx="3276000" cy="2630160"/>
            <a:chOff x="5029200" y="1143000"/>
            <a:chExt cx="3276000" cy="2630160"/>
          </a:xfrm>
        </p:grpSpPr>
        <p:sp>
          <p:nvSpPr>
            <p:cNvPr id="115" name="Oval 4"/>
            <p:cNvSpPr/>
            <p:nvPr/>
          </p:nvSpPr>
          <p:spPr>
            <a:xfrm>
              <a:off x="5360040" y="1721880"/>
              <a:ext cx="2846160" cy="2051280"/>
            </a:xfrm>
            <a:prstGeom prst="ellipse">
              <a:avLst/>
            </a:prstGeom>
            <a:gradFill rotWithShape="0">
              <a:gsLst>
                <a:gs pos="0">
                  <a:srgbClr val="f3f3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39"/>
            <p:cNvSpPr/>
            <p:nvPr/>
          </p:nvSpPr>
          <p:spPr>
            <a:xfrm>
              <a:off x="6220440" y="1774080"/>
              <a:ext cx="1853280" cy="5295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11"/>
            <p:cNvSpPr/>
            <p:nvPr/>
          </p:nvSpPr>
          <p:spPr>
            <a:xfrm>
              <a:off x="5029200" y="1196640"/>
              <a:ext cx="198360" cy="19836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5431680" y="114300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相対速度ベクトル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6"/>
            <p:cNvSpPr/>
            <p:nvPr/>
          </p:nvSpPr>
          <p:spPr>
            <a:xfrm>
              <a:off x="6750000" y="2700720"/>
              <a:ext cx="66240" cy="658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8"/>
            <p:cNvSpPr/>
            <p:nvPr/>
          </p:nvSpPr>
          <p:spPr>
            <a:xfrm>
              <a:off x="6220440" y="1774080"/>
              <a:ext cx="66240" cy="66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 flipV="1">
              <a:off x="6843960" y="2369520"/>
              <a:ext cx="1191240" cy="330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6286680" y="1812960"/>
              <a:ext cx="1791000" cy="860040"/>
            </a:xfrm>
            <a:prstGeom prst="pi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5"/>
            <p:cNvSpPr/>
            <p:nvPr/>
          </p:nvSpPr>
          <p:spPr>
            <a:xfrm>
              <a:off x="7809120" y="2171160"/>
              <a:ext cx="66240" cy="66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8046360" y="2303640"/>
              <a:ext cx="66240" cy="65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7263000" y="1749240"/>
              <a:ext cx="65880" cy="66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684120" y="1617120"/>
              <a:ext cx="1389960" cy="3970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 flipV="1">
              <a:off x="5360040" y="1364760"/>
              <a:ext cx="2515320" cy="679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7518240" y="197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4"/>
            <p:cNvSpPr/>
            <p:nvPr/>
          </p:nvSpPr>
          <p:spPr>
            <a:xfrm flipH="1" flipV="1">
              <a:off x="7841880" y="1839960"/>
              <a:ext cx="463320" cy="9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7843680" y="231588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7"/>
            <p:cNvSpPr/>
            <p:nvPr/>
          </p:nvSpPr>
          <p:spPr>
            <a:xfrm>
              <a:off x="6557400" y="270072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38"/>
            <p:cNvSpPr/>
            <p:nvPr/>
          </p:nvSpPr>
          <p:spPr>
            <a:xfrm>
              <a:off x="6094440" y="144324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40"/>
            <p:cNvSpPr/>
            <p:nvPr/>
          </p:nvSpPr>
          <p:spPr>
            <a:xfrm>
              <a:off x="7220160" y="144324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41"/>
            <p:cNvSpPr/>
            <p:nvPr/>
          </p:nvSpPr>
          <p:spPr>
            <a:xfrm>
              <a:off x="7088040" y="177408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42"/>
            <p:cNvSpPr/>
            <p:nvPr/>
          </p:nvSpPr>
          <p:spPr>
            <a:xfrm>
              <a:off x="7412040" y="2039040"/>
              <a:ext cx="66240" cy="66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24"/>
          <p:cNvSpPr/>
          <p:nvPr/>
        </p:nvSpPr>
        <p:spPr>
          <a:xfrm>
            <a:off x="76320" y="5133960"/>
            <a:ext cx="426708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JK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処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内部にあると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-  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法線で新し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求め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と２点を使っ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含む三角形を見つけ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4343400" y="559116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JK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処理終了条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すでに出てい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点と同じ点が出たと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辺の選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680" y="2133720"/>
            <a:ext cx="2133360" cy="3047760"/>
          </a:xfrm>
          <a:custGeom>
            <a:avLst/>
            <a:gdLst/>
            <a:ahLst/>
            <a:rect l="l" t="t" r="r" b="b"/>
            <a:pathLst>
              <a:path w="1344" h="1920">
                <a:moveTo>
                  <a:pt x="0" y="672"/>
                </a:moveTo>
                <a:lnTo>
                  <a:pt x="1344" y="0"/>
                </a:lnTo>
                <a:lnTo>
                  <a:pt x="1296" y="1920"/>
                </a:lnTo>
                <a:lnTo>
                  <a:pt x="0" y="67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6248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886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6688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0960" y="1752480"/>
            <a:ext cx="340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頂点は正しい順に並んで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新しい点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辺で新しい三角形を作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原点を含む三角形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１．三角形を作ってみ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２．各辺と原点の有向距離を求める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３．最大有向距離を求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４．最大有向距離が最小にな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三角形を選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連続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JK(by Gi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3429000" y="2209680"/>
            <a:ext cx="4573440" cy="320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85800" y="2819520"/>
            <a:ext cx="411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3429000" y="1752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533520" y="2724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3340080" y="27558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2971800" y="2209680"/>
            <a:ext cx="579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3429000" y="2209680"/>
            <a:ext cx="21351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2590920" y="1600200"/>
            <a:ext cx="3047760" cy="2133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0942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855036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532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1007640" y="2382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相対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2"/>
          <p:cNvSpPr/>
          <p:nvPr/>
        </p:nvSpPr>
        <p:spPr>
          <a:xfrm flipH="1">
            <a:off x="4114800" y="22096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3"/>
          <p:cNvSpPr/>
          <p:nvPr/>
        </p:nvSpPr>
        <p:spPr>
          <a:xfrm flipH="1">
            <a:off x="3428640" y="2666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3352680" y="36576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5486400" y="2133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4038480" y="25909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38098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8800" y="158760"/>
            <a:ext cx="79581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連続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JK(by Gi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3429000" y="2209680"/>
            <a:ext cx="4573440" cy="320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685800" y="2819520"/>
            <a:ext cx="411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3429000" y="1752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533520" y="2724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3340080" y="27558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2971800" y="2209680"/>
            <a:ext cx="579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 flipV="1">
            <a:off x="3429000" y="2209680"/>
            <a:ext cx="21351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2590920" y="1600200"/>
            <a:ext cx="3047760" cy="2133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0942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55036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5532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007640" y="2382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相対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H="1">
            <a:off x="3428640" y="2666880"/>
            <a:ext cx="685800" cy="1067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7"/>
          <p:cNvSpPr/>
          <p:nvPr/>
        </p:nvSpPr>
        <p:spPr>
          <a:xfrm>
            <a:off x="3352680" y="36576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486400" y="2133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038480" y="25909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38098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3304800" y="2590920"/>
            <a:ext cx="685800" cy="10666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3581280" y="3048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657600" y="2666880"/>
            <a:ext cx="457200" cy="4572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398960" y="1841040"/>
            <a:ext cx="1850400" cy="1042200"/>
            <a:chOff x="1398960" y="1841040"/>
            <a:chExt cx="1850400" cy="1042200"/>
          </a:xfrm>
        </p:grpSpPr>
        <p:sp>
          <p:nvSpPr>
            <p:cNvPr id="186" name=""/>
            <p:cNvSpPr/>
            <p:nvPr/>
          </p:nvSpPr>
          <p:spPr>
            <a:xfrm rot="900000">
              <a:off x="1447560" y="2057400"/>
              <a:ext cx="1752480" cy="609480"/>
            </a:xfrm>
            <a:prstGeom prst="roundRect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693440" y="1919880"/>
              <a:ext cx="157680" cy="58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797560" y="2215800"/>
              <a:ext cx="157680" cy="58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28800" y="13572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274320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0656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752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257800" y="2209680"/>
            <a:ext cx="1752480" cy="609480"/>
            <a:chOff x="5257800" y="2209680"/>
            <a:chExt cx="1752480" cy="609480"/>
          </a:xfrm>
        </p:grpSpPr>
        <p:sp>
          <p:nvSpPr>
            <p:cNvPr id="195" name=""/>
            <p:cNvSpPr/>
            <p:nvPr/>
          </p:nvSpPr>
          <p:spPr>
            <a:xfrm>
              <a:off x="5257800" y="2209680"/>
              <a:ext cx="1752480" cy="609480"/>
            </a:xfrm>
            <a:prstGeom prst="roundRect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62720" y="2209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5720" y="2209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267080" y="2743200"/>
            <a:ext cx="3048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.H</cp:lastModifiedBy>
  <dcterms:modified xsi:type="dcterms:W3CDTF">2008-04-19T15:36:25Z</dcterms:modified>
  <cp:revision>601</cp:revision>
  <dc:subject/>
  <dc:title>PowerPoint Presentation</dc:title>
</cp:coreProperties>
</file>